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png" ContentType="image/png"/>
  <Override PartName="/ppt/media/image27.jpeg" ContentType="image/jpeg"/>
  <Override PartName="/ppt/media/image6.jpeg" ContentType="image/jpeg"/>
  <Override PartName="/ppt/media/image18.png" ContentType="image/png"/>
  <Override PartName="/ppt/media/image28.jpeg" ContentType="image/jpeg"/>
  <Override PartName="/ppt/media/image7.jpeg" ContentType="image/jpeg"/>
  <Override PartName="/ppt/media/image5.jpeg" ContentType="image/jpeg"/>
  <Override PartName="/ppt/media/image10.jpeg" ContentType="image/jpeg"/>
  <Override PartName="/ppt/media/image8.png" ContentType="image/png"/>
  <Override PartName="/ppt/media/image14.jpeg" ContentType="image/jpeg"/>
  <Override PartName="/ppt/media/image11.jpeg" ContentType="image/jpeg"/>
  <Override PartName="/ppt/media/image13.png" ContentType="image/png"/>
  <Override PartName="/ppt/media/image12.jpeg" ContentType="image/jpeg"/>
  <Override PartName="/ppt/media/image30.jpeg" ContentType="image/jpeg"/>
  <Override PartName="/ppt/media/image24.jpeg" ContentType="image/jpeg"/>
  <Override PartName="/ppt/media/image4.jpeg" ContentType="image/jpeg"/>
  <Override PartName="/ppt/media/image25.jpeg" ContentType="image/jpeg"/>
  <Override PartName="/ppt/media/image29.jpeg" ContentType="image/jpeg"/>
  <Override PartName="/ppt/media/image3.wmf" ContentType="image/x-wmf"/>
  <Override PartName="/ppt/media/image15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png" ContentType="image/pn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D0562-4EC7-413B-9286-2738251BA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1C78F-56A3-4093-BD7F-1E6718AD64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B72704-0853-40C2-91E6-58C4D36B8F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E41F6-F16F-4FFA-A8C6-082F4721F1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A34C8-EFDB-4552-BEA6-38F7A35A2C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7A197-8CF4-4FA0-BEDB-32B05FC320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8D555-1ED2-45DF-9353-F5B1B58F6A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FD895-F575-4AEA-B087-B47B48B0F2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2302-42FF-4D53-9A8A-CC4A96C79D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E2634-2223-4E3B-8A56-CB2F83F4E2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B32A4-DB5F-4620-8BD0-795918EF31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D2D00-1A9B-4F2C-B6DF-4D1927B5A5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0135F-B33C-4DA0-9C2D-C5DA6B28D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E3405-B299-4DA8-A5AC-CAAE0DDB54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FD402-7171-4977-8D86-A3C50F4AF5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86393-971B-41A5-A9F1-22F96F630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D93AF-6B9E-46E7-A934-1B231A56FAA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E8A09A-8F43-4A89-99F9-5906044762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059B8-9E71-4E0C-A571-7B58B5D202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F2B24-1751-49AD-A9C5-A604F54815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67FF7-22E5-4316-B577-4C4515DFA0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65E9C-63D0-48BD-B27F-0C17F3FA22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7CA42-CE29-49C4-84DF-8741BC4A96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5539F-4173-4997-8777-EB64A6418D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R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D250-0EE5-4407-876F-5630CF0C1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2371E-9324-4B6A-A2D0-F41A4F705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6433F-4940-451F-974F-C462A0089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9E0A6-85DC-4B45-AA07-4BBA527CCE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2AD5-4A63-4FB8-8FF8-B2F81A7F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C71D9-86FB-4CF7-9EB5-6042601B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A4D39-BC0F-427E-9815-383AEEE3E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7BB-C37F-4330-81F0-0A1E5B59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CF085-53EE-4ED1-8B72-8B55A4CCC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1FC9-2892-40B2-B99D-AF4DDD3E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C7F3-8D85-4635-B466-49D856633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F31E-7356-4D02-9874-794A04070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26AA-038D-4E4E-A481-D00C875EE1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1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542320" y="1371600"/>
            <a:ext cx="6534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ЕПИДЕМИОЛОГИЈ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ОБОЉЕЊА ПАРОДОН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http://thumb10.shutterstock.com/photos/thumb_large/440539/440539,1277039711,20.jpg"/>
          <p:cNvPicPr/>
          <p:nvPr/>
        </p:nvPicPr>
        <p:blipFill>
          <a:blip r:embed="rId1"/>
          <a:srcRect l="0" t="0" r="0" b="9767"/>
          <a:stretch/>
        </p:blipFill>
        <p:spPr>
          <a:xfrm>
            <a:off x="0" y="4043520"/>
            <a:ext cx="2887560" cy="2814480"/>
          </a:xfrm>
          <a:prstGeom prst="rect">
            <a:avLst/>
          </a:prstGeom>
          <a:ln w="0">
            <a:noFill/>
          </a:ln>
        </p:spPr>
      </p:pic>
      <p:sp>
        <p:nvSpPr>
          <p:cNvPr id="50" name="Text Box 5"/>
          <p:cNvSpPr/>
          <p:nvPr/>
        </p:nvSpPr>
        <p:spPr>
          <a:xfrm>
            <a:off x="2971800" y="3352680"/>
            <a:ext cx="579132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ИНДЕКСИ 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АРОДОНТОЛОГИЈ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4"/>
          <p:cNvSpPr/>
          <p:nvPr/>
        </p:nvSpPr>
        <p:spPr>
          <a:xfrm>
            <a:off x="0" y="762120"/>
            <a:ext cx="9144000" cy="53316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-42840" y="1447920"/>
            <a:ext cx="53769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752480" y="2666880"/>
            <a:ext cx="7391520" cy="38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ређ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нзите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лам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ргин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пој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дхерира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рђ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лам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ак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јчешћ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ел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дњ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сут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естибулар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ра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е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зија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матра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20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об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бра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едно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</a:t>
            </a:r>
            <a:r>
              <a:rPr b="0" lang="sr-ME" sz="2000" spc="-1" strike="noStrike">
                <a:solidFill>
                  <a:srgbClr val="000000"/>
                </a:solidFill>
                <a:latin typeface="Arial"/>
              </a:rPr>
              <a:t>кс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дел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2" descr="http://thumb10.shutterstock.com/photos/thumb_large/440539/440539,1277039711,20.jpg"/>
          <p:cNvPicPr/>
          <p:nvPr/>
        </p:nvPicPr>
        <p:blipFill>
          <a:blip r:embed="rId1"/>
          <a:srcRect l="0" t="0" r="0" b="12172"/>
          <a:stretch/>
        </p:blipFill>
        <p:spPr>
          <a:xfrm>
            <a:off x="0" y="4952880"/>
            <a:ext cx="1744560" cy="1656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1"/>
          <p:cNvSpPr/>
          <p:nvPr/>
        </p:nvSpPr>
        <p:spPr>
          <a:xfrm>
            <a:off x="-42840" y="2209680"/>
            <a:ext cx="91868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800" spc="-1" strike="noStrike">
                <a:solidFill>
                  <a:srgbClr val="000000"/>
                </a:solidFill>
                <a:latin typeface="Arial"/>
              </a:rPr>
              <a:t>ПМА индекс по Шуру и Масл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4"/>
          <p:cNvSpPr/>
          <p:nvPr/>
        </p:nvSpPr>
        <p:spPr>
          <a:xfrm>
            <a:off x="0" y="762120"/>
            <a:ext cx="9144000" cy="53316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5"/>
          <p:cNvSpPr/>
          <p:nvPr/>
        </p:nvSpPr>
        <p:spPr>
          <a:xfrm>
            <a:off x="7920" y="1459080"/>
            <a:ext cx="4038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6"/>
          <p:cNvSpPr/>
          <p:nvPr/>
        </p:nvSpPr>
        <p:spPr>
          <a:xfrm>
            <a:off x="1782720" y="2743200"/>
            <a:ext cx="819936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800" spc="-1" strike="noStrike">
                <a:solidFill>
                  <a:srgbClr val="000000"/>
                </a:solidFill>
                <a:latin typeface="Arial"/>
              </a:rPr>
              <a:t>П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0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ормал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ил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дентал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ил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наков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ламаци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лама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ћа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след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е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ил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вар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туп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ндо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јас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лама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рази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ћа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варење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вокациј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разит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флама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разит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ћањ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понтани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варењем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роз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кротич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ас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ден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ил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церонекрозн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нгивит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струкциј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дент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апил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азорен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2" descr="http://thumb10.shutterstock.com/photos/thumb_large/440539/440539,1277039711,20.jpg"/>
          <p:cNvPicPr/>
          <p:nvPr/>
        </p:nvPicPr>
        <p:blipFill>
          <a:blip r:embed="rId1"/>
          <a:srcRect l="0" t="0" r="0" b="8090"/>
          <a:stretch/>
        </p:blipFill>
        <p:spPr>
          <a:xfrm>
            <a:off x="0" y="5126040"/>
            <a:ext cx="1744560" cy="173196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7"/>
          <p:cNvSpPr/>
          <p:nvPr/>
        </p:nvSpPr>
        <p:spPr>
          <a:xfrm>
            <a:off x="-42840" y="2209680"/>
            <a:ext cx="91868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800" spc="-1" strike="noStrike">
                <a:solidFill>
                  <a:srgbClr val="000000"/>
                </a:solidFill>
                <a:latin typeface="Arial"/>
              </a:rPr>
              <a:t>ПМА индекс по Шуру и Масл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2" descr="http://www.juniordentist.com/wp-content/uploads/2009/03/stiplled-gingiva.jpg"/>
          <p:cNvPicPr/>
          <p:nvPr/>
        </p:nvPicPr>
        <p:blipFill>
          <a:blip r:embed="rId2"/>
          <a:srcRect l="0" t="0" r="0" b="7953"/>
          <a:stretch/>
        </p:blipFill>
        <p:spPr>
          <a:xfrm>
            <a:off x="5638680" y="1523880"/>
            <a:ext cx="2895840" cy="1749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-42840" y="1117440"/>
            <a:ext cx="50720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http://thumb10.shutterstock.com/photos/thumb_large/440539/440539,1277039711,20.jpg"/>
          <p:cNvPicPr/>
          <p:nvPr/>
        </p:nvPicPr>
        <p:blipFill>
          <a:blip r:embed="rId1"/>
          <a:srcRect l="0" t="0" r="0" b="12172"/>
          <a:stretch/>
        </p:blipFill>
        <p:spPr>
          <a:xfrm>
            <a:off x="7399440" y="5202360"/>
            <a:ext cx="1744560" cy="16556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7"/>
          <p:cNvSpPr/>
          <p:nvPr/>
        </p:nvSpPr>
        <p:spPr>
          <a:xfrm>
            <a:off x="-42840" y="1771560"/>
            <a:ext cx="91868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800" spc="-1" strike="noStrike">
                <a:solidFill>
                  <a:srgbClr val="000000"/>
                </a:solidFill>
                <a:latin typeface="Arial"/>
              </a:rPr>
              <a:t>ПМА индекс по Шуру и Масл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2"/>
          <p:cNvSpPr/>
          <p:nvPr/>
        </p:nvSpPr>
        <p:spPr>
          <a:xfrm>
            <a:off x="-19080" y="2371680"/>
            <a:ext cx="9163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ње слободне гингиве (М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- Нормална слободна гинг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слободној ивици нема видљивих знакова инфламац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- Блага инфла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 едем и увећање  слободне гинги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нгива не крвари на благ притисак тупом сонд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- Јасна инфла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већана слободна гингива. Изражено крварење на благ притисак тупом сон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- Изразита инфла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ома изражена инфламација и оток са спонтаним крварењ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ободне гингиве. Инфламација се шири ка припојној гинги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 Некроза слободне гинги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лцеро-некрозне промене на слободној гинги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 Потпуна деструкција слободне гинги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еструкција гингиве и оголићење корена зуба апикалниј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 цементно-глеђне границ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2" descr="http://www.edwardbyrne.com/perio01%20.jpg"/>
          <p:cNvPicPr/>
          <p:nvPr/>
        </p:nvPicPr>
        <p:blipFill>
          <a:blip r:embed="rId2"/>
          <a:stretch/>
        </p:blipFill>
        <p:spPr>
          <a:xfrm>
            <a:off x="6053040" y="947880"/>
            <a:ext cx="2692440" cy="20192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2" descr="http://thumb10.shutterstock.com/photos/thumb_large/440539/440539,1277039711,20.jpg"/>
          <p:cNvPicPr/>
          <p:nvPr/>
        </p:nvPicPr>
        <p:blipFill>
          <a:blip r:embed="rId1"/>
          <a:srcRect l="0" t="0" r="0" b="12172"/>
          <a:stretch/>
        </p:blipFill>
        <p:spPr>
          <a:xfrm>
            <a:off x="7399440" y="5202360"/>
            <a:ext cx="1744560" cy="16556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5"/>
          <p:cNvSpPr/>
          <p:nvPr/>
        </p:nvSpPr>
        <p:spPr>
          <a:xfrm>
            <a:off x="-42840" y="1117440"/>
            <a:ext cx="4038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9"/>
          <p:cNvSpPr/>
          <p:nvPr/>
        </p:nvSpPr>
        <p:spPr>
          <a:xfrm>
            <a:off x="-42840" y="1855800"/>
            <a:ext cx="91868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800" spc="-1" strike="noStrike">
                <a:solidFill>
                  <a:srgbClr val="000000"/>
                </a:solidFill>
                <a:latin typeface="Arial"/>
              </a:rPr>
              <a:t>ПМА индекс по Шуру и Масл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2"/>
          <p:cNvSpPr/>
          <p:nvPr/>
        </p:nvSpPr>
        <p:spPr>
          <a:xfrm>
            <a:off x="-42840" y="2362320"/>
            <a:ext cx="9186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тање припојне гингиве (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– Нормална припојна гинги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појна гингива без запаљења. Бледоружичаста и ситнозрнаста по површи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Блага инфла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Благ едем са губитком ситнозрнасте површинске структуре припојне гингив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мена боје може, али не мора бити присутн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– Јака инфламац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дем и хиперемија припојне гингиве веома су изражени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сутни су плићи пародонтални џеп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Изражена пародонтопат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сутни су дубоки пародонтални џеп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2" descr="http://t2.gstatic.com/images?q=tbn:ANd9GcRJITHKhqh3wrNm6XzVF1DACoPDVpb5-1qlTuylVXhzjX_9Xy9xWw"/>
          <p:cNvPicPr/>
          <p:nvPr/>
        </p:nvPicPr>
        <p:blipFill>
          <a:blip r:embed="rId2"/>
          <a:stretch/>
        </p:blipFill>
        <p:spPr>
          <a:xfrm>
            <a:off x="5823000" y="146160"/>
            <a:ext cx="3152880" cy="2170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6"/>
          <p:cNvSpPr/>
          <p:nvPr/>
        </p:nvSpPr>
        <p:spPr>
          <a:xfrm>
            <a:off x="7920" y="2362320"/>
            <a:ext cx="73915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иказу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епе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ламаци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еликом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цизношћ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себ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годан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тврђивањ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ежи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гивитис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достатак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требн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ост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реме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ов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епен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ламације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овор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ом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ли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итању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четн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одонтопатиј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7" descr=""/>
          <p:cNvPicPr/>
          <p:nvPr/>
        </p:nvPicPr>
        <p:blipFill>
          <a:blip r:embed="rId1"/>
          <a:stretch/>
        </p:blipFill>
        <p:spPr>
          <a:xfrm>
            <a:off x="4648320" y="3665520"/>
            <a:ext cx="4495680" cy="3192480"/>
          </a:xfrm>
          <a:prstGeom prst="rect">
            <a:avLst/>
          </a:prstGeom>
          <a:ln w="0">
            <a:noFill/>
          </a:ln>
        </p:spPr>
      </p:pic>
      <p:sp>
        <p:nvSpPr>
          <p:cNvPr id="122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-42840" y="1117440"/>
            <a:ext cx="55292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0"/>
          <p:cNvSpPr/>
          <p:nvPr/>
        </p:nvSpPr>
        <p:spPr>
          <a:xfrm>
            <a:off x="-42840" y="1771560"/>
            <a:ext cx="9186840" cy="3682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800" spc="-1" strike="noStrike">
                <a:solidFill>
                  <a:srgbClr val="000000"/>
                </a:solidFill>
                <a:latin typeface="Arial"/>
              </a:rPr>
              <a:t>ПМА индекс по Шуру и Маслер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http://thumb10.shutterstock.com/photos/thumb_large/440539/440539,1277039711,20.jpg"/>
          <p:cNvPicPr/>
          <p:nvPr/>
        </p:nvPicPr>
        <p:blipFill>
          <a:blip r:embed="rId2"/>
          <a:srcRect l="0" t="0" r="0" b="12172"/>
          <a:stretch/>
        </p:blipFill>
        <p:spPr>
          <a:xfrm>
            <a:off x="0" y="5202360"/>
            <a:ext cx="174456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0" y="2057040"/>
            <a:ext cx="10134720" cy="480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ондир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ивал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улку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туп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одонтал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онд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онтролиш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о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бл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ондир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орм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оје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ондир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мени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о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блик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ондир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паљ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ме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о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мењен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ондир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о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ла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ко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ондир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м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о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зраж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5-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најмањ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оди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понта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рв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улкус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менил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бо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то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зраж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лцер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Ве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узда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ециза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амета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еп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флам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Чес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имењ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клиничко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а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http://thumb10.shutterstock.com/photos/thumb_large/440539/440539,1277039711,20.jpg"/>
          <p:cNvPicPr/>
          <p:nvPr/>
        </p:nvPicPr>
        <p:blipFill>
          <a:blip r:embed="rId1"/>
          <a:stretch/>
        </p:blipFill>
        <p:spPr>
          <a:xfrm>
            <a:off x="0" y="5278320"/>
            <a:ext cx="1744560" cy="157968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"/>
          <p:cNvSpPr/>
          <p:nvPr/>
        </p:nvSpPr>
        <p:spPr>
          <a:xfrm>
            <a:off x="-42840" y="914400"/>
            <a:ext cx="469116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8"/>
          <p:cNvSpPr/>
          <p:nvPr/>
        </p:nvSpPr>
        <p:spPr>
          <a:xfrm>
            <a:off x="-42840" y="1449360"/>
            <a:ext cx="918684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ileman-Sonov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ингивалног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сулкус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SBI – sulcus bleeding inde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2" descr="http://www.mojstomatolog.com.hr/wp-content/uploads/2011/08/krvarenje-prvi-znak-gingivitisa.jpg"/>
          <p:cNvPicPr/>
          <p:nvPr/>
        </p:nvPicPr>
        <p:blipFill>
          <a:blip r:embed="rId2"/>
          <a:stretch/>
        </p:blipFill>
        <p:spPr>
          <a:xfrm>
            <a:off x="6324480" y="44280"/>
            <a:ext cx="2705400" cy="21909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6"/>
          <p:cNvSpPr/>
          <p:nvPr/>
        </p:nvSpPr>
        <p:spPr>
          <a:xfrm>
            <a:off x="7920" y="2362320"/>
            <a:ext cx="9120240" cy="32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исти провоцирано крварење тупом пародонталном сон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 дисталног ка мезијалном делу сулкуса, од базе папиле до њеног врх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- нема крварења након сондир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- крварење присутно само на 1 месту након сондир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- више тачкастих крварења из папиле након сондир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- интердент.простор се пуни крвљу непосредно након сондир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- профузно крварење након сондир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ME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уздан индикатор стања гингив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зо и једноставно одређивањ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http://thumb10.shutterstock.com/photos/thumb_large/440539/440539,1277039711,20.jpg"/>
          <p:cNvPicPr/>
          <p:nvPr/>
        </p:nvPicPr>
        <p:blipFill>
          <a:blip r:embed="rId1"/>
          <a:srcRect l="0" t="0" r="0" b="6997"/>
          <a:stretch/>
        </p:blipFill>
        <p:spPr>
          <a:xfrm>
            <a:off x="7920" y="5105520"/>
            <a:ext cx="1744560" cy="175248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5"/>
          <p:cNvSpPr/>
          <p:nvPr/>
        </p:nvSpPr>
        <p:spPr>
          <a:xfrm>
            <a:off x="-42840" y="914400"/>
            <a:ext cx="4038480" cy="70380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9"/>
          <p:cNvSpPr/>
          <p:nvPr/>
        </p:nvSpPr>
        <p:spPr>
          <a:xfrm>
            <a:off x="7920" y="1716120"/>
            <a:ext cx="9186840" cy="642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Mileman-Sonov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терденталн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BI – papilla bleeding index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2" descr="http://www.healthmagazine.ae/wp-content/uploads/2013/11/Bad-Breath-and-Gingivitis.jpg"/>
          <p:cNvPicPr/>
          <p:nvPr/>
        </p:nvPicPr>
        <p:blipFill>
          <a:blip r:embed="rId2"/>
          <a:stretch/>
        </p:blipFill>
        <p:spPr>
          <a:xfrm>
            <a:off x="6175440" y="4668840"/>
            <a:ext cx="2952720" cy="21906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-31680" y="1980720"/>
            <a:ext cx="11004480" cy="449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др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едоружичас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врс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тнозрнаст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рдентал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стор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минира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а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ње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ли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пил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ви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ложа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а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лама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ви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ш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рвен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орм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а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ећа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лући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ал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ксуда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вар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аг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вока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п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нд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2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р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лама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рв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ражен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де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ећ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лобод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ј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вар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ла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тисак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уп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онд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3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а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фламац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рази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рв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већа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раже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нденц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онта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варењ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сто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лцерац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2" descr="http://thumb10.shutterstock.com/photos/thumb_large/440539/440539,1277039711,20.jpg"/>
          <p:cNvPicPr/>
          <p:nvPr/>
        </p:nvPicPr>
        <p:blipFill>
          <a:blip r:embed="rId1"/>
          <a:srcRect l="0" t="0" r="0" b="12172"/>
          <a:stretch/>
        </p:blipFill>
        <p:spPr>
          <a:xfrm>
            <a:off x="0" y="4973760"/>
            <a:ext cx="1744560" cy="165564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-42840" y="914400"/>
            <a:ext cx="5300640" cy="39888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9"/>
          <p:cNvSpPr/>
          <p:nvPr/>
        </p:nvSpPr>
        <p:spPr>
          <a:xfrm>
            <a:off x="-42840" y="1449360"/>
            <a:ext cx="9186840" cy="398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156b13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Loe-Silnesov 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2" descr="http://www.bpidental.co.uk/wp-content/uploads/2010/10/preop-gingivitis-1-300x164.jpg"/>
          <p:cNvPicPr/>
          <p:nvPr/>
        </p:nvPicPr>
        <p:blipFill>
          <a:blip r:embed="rId2"/>
          <a:stretch/>
        </p:blipFill>
        <p:spPr>
          <a:xfrm>
            <a:off x="5486400" y="133200"/>
            <a:ext cx="3543480" cy="19368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880" y="1706400"/>
            <a:ext cx="9140760" cy="579600"/>
          </a:xfrm>
          <a:prstGeom prst="rect">
            <a:avLst/>
          </a:prstGeom>
          <a:gradFill rotWithShape="0">
            <a:gsLst>
              <a:gs pos="0">
                <a:srgbClr val="7030a0"/>
              </a:gs>
              <a:gs pos="100000">
                <a:srgbClr val="ffa800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абав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лини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еоград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5"/>
          <p:cNvSpPr/>
          <p:nvPr/>
        </p:nvSpPr>
        <p:spPr>
          <a:xfrm>
            <a:off x="17524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6"/>
          <p:cNvSpPr/>
          <p:nvPr/>
        </p:nvSpPr>
        <p:spPr>
          <a:xfrm>
            <a:off x="2880" y="990720"/>
            <a:ext cx="7079040" cy="398880"/>
          </a:xfrm>
          <a:prstGeom prst="rect">
            <a:avLst/>
          </a:prstGeom>
          <a:solidFill>
            <a:srgbClr val="cc99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једи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импто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опатиј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2" descr="http://thumb10.shutterstock.com/photos/thumb_large/440539/440539,1277039711,20.jpg"/>
          <p:cNvPicPr/>
          <p:nvPr/>
        </p:nvPicPr>
        <p:blipFill>
          <a:blip r:embed="rId1"/>
          <a:srcRect l="0" t="0" r="0" b="13848"/>
          <a:stretch/>
        </p:blipFill>
        <p:spPr>
          <a:xfrm>
            <a:off x="0" y="5430960"/>
            <a:ext cx="1744560" cy="1427040"/>
          </a:xfrm>
          <a:prstGeom prst="rect">
            <a:avLst/>
          </a:prstGeom>
          <a:ln w="0">
            <a:noFill/>
          </a:ln>
        </p:spPr>
      </p:pic>
      <p:sp>
        <p:nvSpPr>
          <p:cNvPr id="148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Box 1"/>
          <p:cNvSpPr/>
          <p:nvPr/>
        </p:nvSpPr>
        <p:spPr>
          <a:xfrm>
            <a:off x="152280" y="2362320"/>
            <a:ext cx="914400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 – Физ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л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шко померање које се кли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чки не може уочит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 – Најмање видљиво померање зуба (ок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0,2 м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– Померање зуба до 1 м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вестибуло – оралном пра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 – Лаб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љењ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уба од 1 до 2 м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 вестибуло – оралном пра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  Померање зуба више од 2 м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 без обзира у ком смеру, и апикалн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остоје функционалне сметње (мастикациј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– Терминално клаћењ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з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уб се помера  већ под прит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ом језика ил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усан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Зуб може да се нагне и до 45 степ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и у однос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уздужну ос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ину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сутна миграција з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https://www2.aofoundation.org/AOFileServerSurgery/MyPortalFiles?FilePath=/Surgery/en/_img/surgery/05-RedFix/98/D26_i300_L.gif"/>
          <p:cNvPicPr/>
          <p:nvPr/>
        </p:nvPicPr>
        <p:blipFill>
          <a:blip r:embed="rId2"/>
          <a:stretch/>
        </p:blipFill>
        <p:spPr>
          <a:xfrm>
            <a:off x="6451560" y="4249800"/>
            <a:ext cx="2687760" cy="2608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52480" y="2286000"/>
            <a:ext cx="739152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5"/>
          <p:cNvSpPr/>
          <p:nvPr/>
        </p:nvSpPr>
        <p:spPr>
          <a:xfrm>
            <a:off x="17524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0" y="914400"/>
            <a:ext cx="914400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7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809880" cy="1584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9" descr=""/>
          <p:cNvPicPr/>
          <p:nvPr/>
        </p:nvPicPr>
        <p:blipFill>
          <a:blip r:embed="rId2"/>
          <a:stretch/>
        </p:blipFill>
        <p:spPr>
          <a:xfrm>
            <a:off x="7256520" y="2303640"/>
            <a:ext cx="1887480" cy="219204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"/>
          <p:cNvPicPr/>
          <p:nvPr/>
        </p:nvPicPr>
        <p:blipFill>
          <a:blip r:embed="rId3"/>
          <a:stretch/>
        </p:blipFill>
        <p:spPr>
          <a:xfrm>
            <a:off x="4608360" y="2279520"/>
            <a:ext cx="2084400" cy="2157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2" descr="http://thumb10.shutterstock.com/photos/thumb_large/440539/440539,1277039711,20.jpg"/>
          <p:cNvPicPr/>
          <p:nvPr/>
        </p:nvPicPr>
        <p:blipFill>
          <a:blip r:embed="rId4"/>
          <a:srcRect l="0" t="0" r="0" b="12172"/>
          <a:stretch/>
        </p:blipFill>
        <p:spPr>
          <a:xfrm>
            <a:off x="0" y="5202360"/>
            <a:ext cx="1744560" cy="1655640"/>
          </a:xfrm>
          <a:prstGeom prst="rect">
            <a:avLst/>
          </a:prstGeom>
          <a:ln w="0">
            <a:noFill/>
          </a:ln>
        </p:spPr>
      </p:pic>
      <p:sp>
        <p:nvSpPr>
          <p:cNvPr id="158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2"/>
          <p:cNvSpPr/>
          <p:nvPr/>
        </p:nvSpPr>
        <p:spPr>
          <a:xfrm>
            <a:off x="-28440" y="1474920"/>
            <a:ext cx="9140760" cy="57924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96f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одонт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mfjordu (P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2" descr="http://www.ameryhouse.com/userimages/probe2.JPG"/>
          <p:cNvPicPr/>
          <p:nvPr/>
        </p:nvPicPr>
        <p:blipFill>
          <a:blip r:embed="rId5"/>
          <a:stretch/>
        </p:blipFill>
        <p:spPr>
          <a:xfrm>
            <a:off x="1844640" y="4495680"/>
            <a:ext cx="2849760" cy="21891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4" descr="http://www.simplestepsdental.com/i/P/ProbePockets.jpg"/>
          <p:cNvPicPr/>
          <p:nvPr/>
        </p:nvPicPr>
        <p:blipFill>
          <a:blip r:embed="rId6"/>
          <a:stretch/>
        </p:blipFill>
        <p:spPr>
          <a:xfrm>
            <a:off x="7238880" y="4724280"/>
            <a:ext cx="1435320" cy="21337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6" descr="http://www.simplestepsdental.com/i/P/ProbeGingivitis.jpg"/>
          <p:cNvPicPr/>
          <p:nvPr/>
        </p:nvPicPr>
        <p:blipFill>
          <a:blip r:embed="rId7"/>
          <a:stretch/>
        </p:blipFill>
        <p:spPr>
          <a:xfrm>
            <a:off x="5259240" y="4683240"/>
            <a:ext cx="1436760" cy="22161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752480" y="1371240"/>
            <a:ext cx="7391520" cy="22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опатиј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јраспрострањен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људск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од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З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рије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опат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ст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8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дин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– 84.6%-92.6%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соб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р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4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јвећ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губ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ДП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е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50%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губ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б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Д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4"/>
          <p:cNvSpPr/>
          <p:nvPr/>
        </p:nvSpPr>
        <p:spPr>
          <a:xfrm>
            <a:off x="0" y="838080"/>
            <a:ext cx="913608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periodontitis19+"/>
          <p:cNvPicPr/>
          <p:nvPr/>
        </p:nvPicPr>
        <p:blipFill>
          <a:blip r:embed="rId1"/>
          <a:stretch/>
        </p:blipFill>
        <p:spPr>
          <a:xfrm>
            <a:off x="1828800" y="3505320"/>
            <a:ext cx="4191120" cy="3351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6" descr=""/>
          <p:cNvPicPr/>
          <p:nvPr/>
        </p:nvPicPr>
        <p:blipFill>
          <a:blip r:embed="rId2"/>
          <a:stretch/>
        </p:blipFill>
        <p:spPr>
          <a:xfrm>
            <a:off x="6095880" y="4038480"/>
            <a:ext cx="3048120" cy="231300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2" descr="http://thumb10.shutterstock.com/photos/thumb_large/440539/440539,1277039711,20.jpg"/>
          <p:cNvPicPr/>
          <p:nvPr/>
        </p:nvPicPr>
        <p:blipFill>
          <a:blip r:embed="rId3"/>
          <a:srcRect l="0" t="0" r="0" b="12172"/>
          <a:stretch/>
        </p:blipFill>
        <p:spPr>
          <a:xfrm>
            <a:off x="0" y="5202360"/>
            <a:ext cx="174456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Text Box 5"/>
          <p:cNvSpPr/>
          <p:nvPr/>
        </p:nvSpPr>
        <p:spPr>
          <a:xfrm>
            <a:off x="17524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2" descr="http://thumb10.shutterstock.com/photos/thumb_large/440539/440539,1277039711,20.jpg"/>
          <p:cNvPicPr/>
          <p:nvPr/>
        </p:nvPicPr>
        <p:blipFill>
          <a:blip r:embed="rId1"/>
          <a:srcRect l="0" t="0" r="0" b="12172"/>
          <a:stretch/>
        </p:blipFill>
        <p:spPr>
          <a:xfrm>
            <a:off x="0" y="4973760"/>
            <a:ext cx="1744560" cy="1655640"/>
          </a:xfrm>
          <a:prstGeom prst="rect">
            <a:avLst/>
          </a:prstGeom>
          <a:ln w="0">
            <a:noFill/>
          </a:ln>
        </p:spPr>
      </p:pic>
      <p:sp>
        <p:nvSpPr>
          <p:cNvPr id="165" name="Rectangle 2"/>
          <p:cNvSpPr/>
          <p:nvPr/>
        </p:nvSpPr>
        <p:spPr>
          <a:xfrm>
            <a:off x="-28440" y="1474920"/>
            <a:ext cx="9140760" cy="57924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96f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fjord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6"/>
          <p:cNvSpPr/>
          <p:nvPr/>
        </p:nvSpPr>
        <p:spPr>
          <a:xfrm>
            <a:off x="0" y="914400"/>
            <a:ext cx="914400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Box 2"/>
          <p:cNvSpPr/>
          <p:nvPr/>
        </p:nvSpPr>
        <p:spPr>
          <a:xfrm>
            <a:off x="-33480" y="2054160"/>
            <a:ext cx="9745920" cy="29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0 – Нормална гингив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дсу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тво знакова инфлам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циј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1 – Веома благ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до умер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а инфлам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ција гингив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зражена благ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инфлам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ција гингиве која не захват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гингиву ок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целог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зуб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2 – Благ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до умер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нса инфлам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ција гингив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зражена благ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инфлам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ција гингиве која захват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гингиву ок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целог зуба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3 – Јак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инфлам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ција гингиве.Изражена интензивна инфлам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ција гингиве са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јасним црвенилом и отoком гингиве. Постоји склонoст ка крварењу, уз појаву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лцерација </a:t>
            </a:r>
            <a:r>
              <a:rPr b="0" lang="sr-RS" sz="1900" spc="-1" strike="noStrike">
                <a:solidFill>
                  <a:srgbClr val="000000"/>
                </a:solidFill>
                <a:latin typeface="Arial"/>
              </a:rPr>
              <a:t>гингиве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2" descr="http://www.colgateprofessional.com/LeadershipUS/PatientEducation/Images/Resources/pated_PeriodontitisPriorTreatment.jpg"/>
          <p:cNvPicPr/>
          <p:nvPr/>
        </p:nvPicPr>
        <p:blipFill>
          <a:blip r:embed="rId2"/>
          <a:stretch/>
        </p:blipFill>
        <p:spPr>
          <a:xfrm>
            <a:off x="2362320" y="5189400"/>
            <a:ext cx="2971800" cy="165096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http://www.blueskydental.co.uk/images/treatments/periodontics-probe2221.jpg"/>
          <p:cNvPicPr/>
          <p:nvPr/>
        </p:nvPicPr>
        <p:blipFill>
          <a:blip r:embed="rId3"/>
          <a:stretch/>
        </p:blipFill>
        <p:spPr>
          <a:xfrm>
            <a:off x="5791320" y="5189400"/>
            <a:ext cx="2442960" cy="16336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5"/>
          <p:cNvSpPr/>
          <p:nvPr/>
        </p:nvSpPr>
        <p:spPr>
          <a:xfrm>
            <a:off x="17524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2" descr="http://thumb10.shutterstock.com/photos/thumb_large/440539/440539,1277039711,20.jpg"/>
          <p:cNvPicPr/>
          <p:nvPr/>
        </p:nvPicPr>
        <p:blipFill>
          <a:blip r:embed="rId1"/>
          <a:srcRect l="0" t="0" r="0" b="8090"/>
          <a:stretch/>
        </p:blipFill>
        <p:spPr>
          <a:xfrm>
            <a:off x="0" y="5126040"/>
            <a:ext cx="1744560" cy="173196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6"/>
          <p:cNvSpPr/>
          <p:nvPr/>
        </p:nvSpPr>
        <p:spPr>
          <a:xfrm>
            <a:off x="0" y="838080"/>
            <a:ext cx="914400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одон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це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2"/>
          <p:cNvSpPr/>
          <p:nvPr/>
        </p:nvSpPr>
        <p:spPr>
          <a:xfrm>
            <a:off x="-28440" y="1474920"/>
            <a:ext cx="9140760" cy="57924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96f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ародонт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Ramfjordu (PD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"/>
          <p:cNvSpPr/>
          <p:nvPr/>
        </p:nvSpPr>
        <p:spPr>
          <a:xfrm>
            <a:off x="19800" y="2266920"/>
            <a:ext cx="946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-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астој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леђ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цемент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ран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ародонт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џе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-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астој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леђ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цемент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ран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ародонт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џе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3 – 6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 -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Растојањ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леђ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цементн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границ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д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ародонталног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џеп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6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м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2" descr="http://medind.nic.in/jay/t12/i2/JIndianSocPeriodontol_2012_16_2_193_99261_f6.jpg"/>
          <p:cNvPicPr/>
          <p:nvPr/>
        </p:nvPicPr>
        <p:blipFill>
          <a:blip r:embed="rId2"/>
          <a:stretch/>
        </p:blipFill>
        <p:spPr>
          <a:xfrm>
            <a:off x="1876320" y="4038480"/>
            <a:ext cx="7267680" cy="262908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52480" y="2286000"/>
            <a:ext cx="7391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5"/>
          <p:cNvSpPr/>
          <p:nvPr/>
        </p:nvSpPr>
        <p:spPr>
          <a:xfrm>
            <a:off x="17524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4632480" y="4618080"/>
            <a:ext cx="4511520" cy="22399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thumb10.shutterstock.com/photos/thumb_large/440539/440539,1277039711,20.jpg"/>
          <p:cNvPicPr/>
          <p:nvPr/>
        </p:nvPicPr>
        <p:blipFill>
          <a:blip r:embed="rId2"/>
          <a:srcRect l="0" t="0" r="0" b="8090"/>
          <a:stretch/>
        </p:blipFill>
        <p:spPr>
          <a:xfrm>
            <a:off x="0" y="5126040"/>
            <a:ext cx="1744560" cy="173196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0" y="914400"/>
            <a:ext cx="914400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2"/>
          <p:cNvSpPr/>
          <p:nvPr/>
        </p:nvSpPr>
        <p:spPr>
          <a:xfrm>
            <a:off x="-28440" y="1474920"/>
            <a:ext cx="9140760" cy="57924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96f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дно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једниц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IT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Box 1"/>
          <p:cNvSpPr/>
          <p:nvPr/>
        </p:nvSpPr>
        <p:spPr>
          <a:xfrm>
            <a:off x="152280" y="2438280"/>
            <a:ext cx="98298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 бодова - Здрав пародонцију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бод       - Крварење гингиве после сондирањ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 бода     - Присутне чврсте зубне наслаг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зубни каменац и субгингивални конкременти)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 постоје проминентне пломбе или неадекватни протетски радов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 бода     - Присутни џепови дубине од 4 до 5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4 бода     - Присутни џепови дубине 6 или више м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2" descr="http://t2.gstatic.com/images?q=tbn:ANd9GcR5-ZBlF-BPwqgK9cvt4LiikiuJ-FPUImT1_Q7rxHnEh9hovJPp4A"/>
          <p:cNvPicPr/>
          <p:nvPr/>
        </p:nvPicPr>
        <p:blipFill>
          <a:blip r:embed="rId3"/>
          <a:stretch/>
        </p:blipFill>
        <p:spPr>
          <a:xfrm>
            <a:off x="2514600" y="4775040"/>
            <a:ext cx="1733400" cy="19242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-22320" y="1890720"/>
            <a:ext cx="102031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рђен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ро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до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говара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ређе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ск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хтев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      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      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учи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авил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дов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рж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орал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гијену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3 -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ре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путста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ржа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гиј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страни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чврст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лаг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врши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рекци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атроге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мењу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ра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л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џепо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4       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терапијск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р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д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к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болесни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рурш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7524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http://thumb10.shutterstock.com/photos/thumb_large/440539/440539,1277039711,20.jpg"/>
          <p:cNvPicPr/>
          <p:nvPr/>
        </p:nvPicPr>
        <p:blipFill>
          <a:blip r:embed="rId1"/>
          <a:srcRect l="0" t="0" r="0" b="8090"/>
          <a:stretch/>
        </p:blipFill>
        <p:spPr>
          <a:xfrm>
            <a:off x="0" y="5126040"/>
            <a:ext cx="1744560" cy="173196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6"/>
          <p:cNvSpPr/>
          <p:nvPr/>
        </p:nvSpPr>
        <p:spPr>
          <a:xfrm>
            <a:off x="0" y="914400"/>
            <a:ext cx="9144000" cy="398880"/>
          </a:xfrm>
          <a:prstGeom prst="rect">
            <a:avLst/>
          </a:prstGeom>
          <a:solidFill>
            <a:srgbClr val="ff99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4"/>
          <p:cNvSpPr/>
          <p:nvPr/>
        </p:nvSpPr>
        <p:spPr>
          <a:xfrm>
            <a:off x="0" y="228600"/>
            <a:ext cx="9144000" cy="53352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2"/>
          <p:cNvSpPr/>
          <p:nvPr/>
        </p:nvSpPr>
        <p:spPr>
          <a:xfrm>
            <a:off x="-28440" y="1474920"/>
            <a:ext cx="9172440" cy="57924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f96f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дно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једниц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IT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Picture 4" descr="http://www.myscottsdaledentist.com/images/periodontal.jpg"/>
          <p:cNvPicPr/>
          <p:nvPr/>
        </p:nvPicPr>
        <p:blipFill>
          <a:blip r:embed="rId2"/>
          <a:stretch/>
        </p:blipFill>
        <p:spPr>
          <a:xfrm>
            <a:off x="3962520" y="4971960"/>
            <a:ext cx="2977920" cy="18846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6" descr="http://www.coastdental.com/blog/image.axd?picture=2011%2F8%2FCD-100912-Advanced-Final.jpg"/>
          <p:cNvPicPr/>
          <p:nvPr/>
        </p:nvPicPr>
        <p:blipFill>
          <a:blip r:embed="rId3"/>
          <a:stretch/>
        </p:blipFill>
        <p:spPr>
          <a:xfrm>
            <a:off x="1895400" y="5214960"/>
            <a:ext cx="1863720" cy="167652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8" descr="http://www.mydentalhub.com/ada/images/each/perio/Periodontal-Probing-Healthy.jpg"/>
          <p:cNvPicPr/>
          <p:nvPr/>
        </p:nvPicPr>
        <p:blipFill>
          <a:blip r:embed="rId4"/>
          <a:stretch/>
        </p:blipFill>
        <p:spPr>
          <a:xfrm>
            <a:off x="7126200" y="4419720"/>
            <a:ext cx="1949400" cy="24368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920" y="1371240"/>
            <a:ext cx="9136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рђи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актор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начајн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танк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пор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парат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јектив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тврђи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умеричк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ражав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4"/>
          <p:cNvSpPr/>
          <p:nvPr/>
        </p:nvSpPr>
        <p:spPr>
          <a:xfrm>
            <a:off x="7920" y="762120"/>
            <a:ext cx="9136080" cy="53316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pated_PeriodontitisPriorTreatment     8"/>
          <p:cNvPicPr/>
          <p:nvPr/>
        </p:nvPicPr>
        <p:blipFill>
          <a:blip r:embed="rId1"/>
          <a:stretch/>
        </p:blipFill>
        <p:spPr>
          <a:xfrm>
            <a:off x="1981080" y="2819520"/>
            <a:ext cx="5639040" cy="3686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http://thumb10.shutterstock.com/photos/thumb_large/440539/440539,1277039711,20.jpg"/>
          <p:cNvPicPr/>
          <p:nvPr/>
        </p:nvPicPr>
        <p:blipFill>
          <a:blip r:embed="rId2"/>
          <a:srcRect l="0" t="0" r="0" b="12172"/>
          <a:stretch/>
        </p:blipFill>
        <p:spPr>
          <a:xfrm>
            <a:off x="0" y="5202360"/>
            <a:ext cx="1744560" cy="165564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752480" y="13712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Оралн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хигијен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слаг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milionu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нтал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ла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n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менц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nu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"/>
          <p:cNvSpPr/>
          <p:nvPr/>
        </p:nvSpPr>
        <p:spPr>
          <a:xfrm>
            <a:off x="7920" y="762120"/>
            <a:ext cx="9136080" cy="53316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2" descr="http://thumb10.shutterstock.com/photos/thumb_large/440539/440539,1277039711,20.jpg"/>
          <p:cNvPicPr/>
          <p:nvPr/>
        </p:nvPicPr>
        <p:blipFill>
          <a:blip r:embed="rId1"/>
          <a:srcRect l="0" t="0" r="0" b="8090"/>
          <a:stretch/>
        </p:blipFill>
        <p:spPr>
          <a:xfrm>
            <a:off x="0" y="5126040"/>
            <a:ext cx="1744560" cy="1731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" descr="http://www.algesterdental.com.au/wp-content/uploads/2010/06/Advanced-Periodontal-Disease1.jpg"/>
          <p:cNvPicPr/>
          <p:nvPr/>
        </p:nvPicPr>
        <p:blipFill>
          <a:blip r:embed="rId2"/>
          <a:stretch/>
        </p:blipFill>
        <p:spPr>
          <a:xfrm>
            <a:off x="3276720" y="3124080"/>
            <a:ext cx="4610160" cy="322740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52480" y="137124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тањ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гингив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MA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Šur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sleru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ma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nov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ал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лкус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leman-ov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рвар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тердент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ингиве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e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nesov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7920" y="762120"/>
            <a:ext cx="9136080" cy="53316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2" descr="http://thumb10.shutterstock.com/photos/thumb_large/440539/440539,1277039711,20.jpg"/>
          <p:cNvPicPr/>
          <p:nvPr/>
        </p:nvPicPr>
        <p:blipFill>
          <a:blip r:embed="rId1"/>
          <a:srcRect l="0" t="0" r="0" b="12172"/>
          <a:stretch/>
        </p:blipFill>
        <p:spPr>
          <a:xfrm>
            <a:off x="0" y="5202360"/>
            <a:ext cx="1744560" cy="16556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http://www.carlsbad-dentistry.com/wp-content/uploads/2013/10/periodontal_carlsbad.jpg"/>
          <p:cNvPicPr/>
          <p:nvPr/>
        </p:nvPicPr>
        <p:blipFill>
          <a:blip r:embed="rId2"/>
          <a:srcRect l="13236" t="21575" r="0" b="0"/>
          <a:stretch/>
        </p:blipFill>
        <p:spPr>
          <a:xfrm>
            <a:off x="3200400" y="3429000"/>
            <a:ext cx="4495680" cy="304812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52480" y="1371600"/>
            <a:ext cx="739152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оједин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имптоми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ародонтопатиј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абав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Стање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пародонцијума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у</a:t>
            </a:r>
            <a:r>
              <a:rPr b="0" lang="sr-Latn-CS" sz="2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цели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л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mfjord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DI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та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цију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једној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једниц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тре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леч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PITN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)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7920" y="762120"/>
            <a:ext cx="9136080" cy="53316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http://thumb10.shutterstock.com/photos/thumb_large/440539/440539,1277039711,20.jpg"/>
          <p:cNvPicPr/>
          <p:nvPr/>
        </p:nvPicPr>
        <p:blipFill>
          <a:blip r:embed="rId1"/>
          <a:srcRect l="0" t="0" r="0" b="12172"/>
          <a:stretch/>
        </p:blipFill>
        <p:spPr>
          <a:xfrm>
            <a:off x="0" y="5202360"/>
            <a:ext cx="1744560" cy="16556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2" descr="http://www.gumrecession.com/images/image27.jpg"/>
          <p:cNvPicPr/>
          <p:nvPr/>
        </p:nvPicPr>
        <p:blipFill>
          <a:blip r:embed="rId2"/>
          <a:stretch/>
        </p:blipFill>
        <p:spPr>
          <a:xfrm>
            <a:off x="3429000" y="3352680"/>
            <a:ext cx="4648320" cy="3038760"/>
          </a:xfrm>
          <a:prstGeom prst="rect">
            <a:avLst/>
          </a:prstGeom>
          <a:ln w="0">
            <a:noFill/>
          </a:ln>
        </p:spPr>
      </p:pic>
    </p:spTree>
  </p:cSld>
  <p:transition spd="med">
    <p:wheel spokes="3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52480" y="2514240"/>
            <a:ext cx="739152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-нема меких наслаг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-меке наслаге до 1/3 површине зуб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-меке наслаге до 2/3 површине зуба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-меке наслаге више од 2/3 површине зуб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7920" y="762120"/>
            <a:ext cx="9136080" cy="53316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7524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0520" y="1600200"/>
            <a:ext cx="45309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гиј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7" descr=""/>
          <p:cNvPicPr/>
          <p:nvPr/>
        </p:nvPicPr>
        <p:blipFill>
          <a:blip r:embed="rId1"/>
          <a:stretch/>
        </p:blipFill>
        <p:spPr>
          <a:xfrm>
            <a:off x="6095880" y="5848200"/>
            <a:ext cx="3048120" cy="10098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8" descr=""/>
          <p:cNvPicPr/>
          <p:nvPr/>
        </p:nvPicPr>
        <p:blipFill>
          <a:blip r:embed="rId2"/>
          <a:stretch/>
        </p:blipFill>
        <p:spPr>
          <a:xfrm>
            <a:off x="6095880" y="4038480"/>
            <a:ext cx="3048120" cy="1822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1"/>
          <p:cNvSpPr/>
          <p:nvPr/>
        </p:nvSpPr>
        <p:spPr>
          <a:xfrm>
            <a:off x="1763640" y="4064040"/>
            <a:ext cx="4283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дент.плак, материја алба, остаци хране..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егледају се одређене површине 6 зуб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стибуларна: 16,26,11,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Лингвална: 36 и 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Уз помоћ ст.огледалцета и сонд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ко неки зуб недостаје-не може се заменити други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" descr="http://thumb10.shutterstock.com/photos/thumb_large/440539/440539,1277039711,20.jpg"/>
          <p:cNvPicPr/>
          <p:nvPr/>
        </p:nvPicPr>
        <p:blipFill>
          <a:blip r:embed="rId3"/>
          <a:srcRect l="0" t="0" r="0" b="8090"/>
          <a:stretch/>
        </p:blipFill>
        <p:spPr>
          <a:xfrm>
            <a:off x="0" y="5126040"/>
            <a:ext cx="1744560" cy="1731960"/>
          </a:xfrm>
          <a:prstGeom prst="rect">
            <a:avLst/>
          </a:prstGeom>
          <a:ln w="0">
            <a:noFill/>
          </a:ln>
        </p:spPr>
      </p:pic>
      <p:sp>
        <p:nvSpPr>
          <p:cNvPr id="80" name="Rectangle 1"/>
          <p:cNvSpPr/>
          <p:nvPr/>
        </p:nvSpPr>
        <p:spPr>
          <a:xfrm>
            <a:off x="7920" y="2286000"/>
            <a:ext cx="9136080" cy="36828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b8e3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меких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наслага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18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rin</a:t>
            </a:r>
            <a:r>
              <a:rPr b="0" lang="sr-Latn-C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milio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18000" y="2209680"/>
            <a:ext cx="9161640" cy="53352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b8e3e6"/>
              </a:gs>
            </a:gsLst>
            <a:lin ang="0"/>
          </a:gra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дентал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лак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RS" sz="20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lnes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u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4"/>
          <p:cNvSpPr/>
          <p:nvPr/>
        </p:nvSpPr>
        <p:spPr>
          <a:xfrm>
            <a:off x="0" y="762120"/>
            <a:ext cx="9144000" cy="53316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7524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28440" y="1530360"/>
            <a:ext cx="45309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гиј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1"/>
          <a:stretch/>
        </p:blipFill>
        <p:spPr>
          <a:xfrm>
            <a:off x="6134040" y="5305320"/>
            <a:ext cx="3009960" cy="1552680"/>
          </a:xfrm>
          <a:prstGeom prst="rect">
            <a:avLst/>
          </a:prstGeom>
          <a:ln w="0">
            <a:noFill/>
          </a:ln>
        </p:spPr>
      </p:pic>
      <p:sp>
        <p:nvSpPr>
          <p:cNvPr id="86" name="Text Box 12"/>
          <p:cNvSpPr/>
          <p:nvPr/>
        </p:nvSpPr>
        <p:spPr>
          <a:xfrm>
            <a:off x="2609640" y="5211720"/>
            <a:ext cx="348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дређује се дебљина наслаг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ингивалне 1/3 з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а свих страна зуб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ви зуби или репрезентатив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ао код претходног индеx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http://thumb10.shutterstock.com/photos/thumb_large/440539/440539,1277039711,20.jpg"/>
          <p:cNvPicPr/>
          <p:nvPr/>
        </p:nvPicPr>
        <p:blipFill>
          <a:blip r:embed="rId2"/>
          <a:srcRect l="0" t="0" r="0" b="12172"/>
          <a:stretch/>
        </p:blipFill>
        <p:spPr>
          <a:xfrm>
            <a:off x="0" y="5202360"/>
            <a:ext cx="1744560" cy="1655640"/>
          </a:xfrm>
          <a:prstGeom prst="rect">
            <a:avLst/>
          </a:prstGeom>
          <a:ln w="0">
            <a:noFill/>
          </a:ln>
        </p:spPr>
      </p:pic>
      <p:sp>
        <p:nvSpPr>
          <p:cNvPr id="88" name="TextBox 1"/>
          <p:cNvSpPr/>
          <p:nvPr/>
        </p:nvSpPr>
        <p:spPr>
          <a:xfrm>
            <a:off x="0" y="297180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-нема д.плака на гингивалној трећини крунице зуб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-д.плак се налази у тамком слоју на ивици гингиве и суседној површини зуб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 може се открити голим оком, само помоћу сонде или бојењ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-умерена количина д.плака у гингивалном сулкусу или гингивалном џепу као и н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вици гингиве и суседној површини зуба. Д.плак се може открити и голим о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-велика количина д.плака која потпуно испуњава г.сулкус или г.џеп и потпуно покрива ивицу гингиве и суседну површину зуба. Иннтердентални простор је испуњен д.плак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191120" y="3276720"/>
            <a:ext cx="7617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77640" y="308916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0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ног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менц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1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мена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ри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/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2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мена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ри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1/3,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ањ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2/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ам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местимично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исут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ременти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3-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аменац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рив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иш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2/3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врши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br>
              <a:rPr sz="2000"/>
            </a:b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н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кремент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окривај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врат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уб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цели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имом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0" y="762120"/>
            <a:ext cx="9144000" cy="533160"/>
          </a:xfrm>
          <a:prstGeom prst="rect">
            <a:avLst/>
          </a:prstGeom>
          <a:solidFill>
            <a:srgbClr val="bdff03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ПИДЕМИОЛОГИЈ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БОЉЕЊ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АРОДО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752480" y="15238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6"/>
          <p:cNvSpPr/>
          <p:nvPr/>
        </p:nvSpPr>
        <p:spPr>
          <a:xfrm>
            <a:off x="20520" y="1523880"/>
            <a:ext cx="4530960" cy="398880"/>
          </a:xfrm>
          <a:prstGeom prst="rect">
            <a:avLst/>
          </a:prstGeom>
          <a:solidFill>
            <a:srgbClr val="ccffcc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ндекси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роцену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рал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хигијен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1828800" y="4724280"/>
            <a:ext cx="329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презентативни зуб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као код претх.индеx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нспекцијом и стом.сонд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2" descr="http://thumb10.shutterstock.com/photos/thumb_large/440539/440539,1277039711,20.jpg"/>
          <p:cNvPicPr/>
          <p:nvPr/>
        </p:nvPicPr>
        <p:blipFill>
          <a:blip r:embed="rId1"/>
          <a:srcRect l="0" t="0" r="0" b="8090"/>
          <a:stretch/>
        </p:blipFill>
        <p:spPr>
          <a:xfrm>
            <a:off x="0" y="5126040"/>
            <a:ext cx="1744560" cy="173196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1"/>
          <p:cNvSpPr/>
          <p:nvPr/>
        </p:nvSpPr>
        <p:spPr>
          <a:xfrm>
            <a:off x="0" y="2000160"/>
            <a:ext cx="9209160" cy="368280"/>
          </a:xfrm>
          <a:prstGeom prst="rect">
            <a:avLst/>
          </a:prstGeom>
          <a:gradFill rotWithShape="0">
            <a:gsLst>
              <a:gs pos="0">
                <a:srgbClr val="92d050"/>
              </a:gs>
              <a:gs pos="100000">
                <a:srgbClr val="b8e3e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ME" sz="1800" spc="-1" strike="noStrike">
                <a:solidFill>
                  <a:srgbClr val="000000"/>
                </a:solidFill>
                <a:latin typeface="Arial"/>
              </a:rPr>
              <a:t>Индекс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ME" sz="1800" spc="-1" strike="noStrike">
                <a:solidFill>
                  <a:srgbClr val="000000"/>
                </a:solidFill>
                <a:latin typeface="Arial"/>
              </a:rPr>
              <a:t>зубног каменца по Грин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heel spokes="3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2T00:18:54Z</dcterms:created>
  <dc:creator>obradovic</dc:creator>
  <dc:description/>
  <dc:language>en-US</dc:language>
  <cp:lastModifiedBy>Cvorovici</cp:lastModifiedBy>
  <dcterms:modified xsi:type="dcterms:W3CDTF">2016-01-31T12:40:30Z</dcterms:modified>
  <cp:revision>74</cp:revision>
  <dc:subject/>
  <dc:title>Slide 1</dc:title>
</cp:coreProperties>
</file>